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hammer.wav" ContentType="audio/x-wav"/>
  <Override PartName="/ppt/media/cashreg.wav" ContentType="audio/x-wav"/>
  <Override PartName="/ppt/media/suction.wav" ContentType="audio/x-wav"/>
  <Override PartName="/ppt/media/image4.jpeg" ContentType="image/jpeg"/>
  <Override PartName="/ppt/media/image10.wmf" ContentType="image/x-wmf"/>
  <Override PartName="/ppt/media/drumroll.wav" ContentType="audio/x-wav"/>
  <Override PartName="/ppt/media/image3.jpeg" ContentType="image/jpeg"/>
  <Override PartName="/ppt/media/arrow.wav" ContentType="audio/x-wav"/>
  <Override PartName="/ppt/media/laser.wav" ContentType="audio/x-wav"/>
  <Override PartName="/ppt/media/image2.wmf" ContentType="image/x-wmf"/>
  <Override PartName="/ppt/media/push.wav" ContentType="audio/x-wav"/>
  <Override PartName="/ppt/media/voltage.wav" ContentType="audio/x-wav"/>
  <Override PartName="/ppt/media/type.wav" ContentType="audio/x-wav"/>
  <Override PartName="/ppt/media/explode.wav" ContentType="audio/x-wav"/>
  <Override PartName="/ppt/media/camera.wav" ContentType="audio/x-wav"/>
  <Override PartName="/ppt/media/bomb.wav" ContentType="audio/x-wav"/>
  <Override PartName="/ppt/media/chimes.wav" ContentType="audio/x-wav"/>
  <Override PartName="/ppt/media/image7.wmf" ContentType="image/x-wmf"/>
  <Override PartName="/ppt/media/image9.wmf" ContentType="image/x-wmf"/>
  <Override PartName="/ppt/media/click.wav" ContentType="audio/x-wav"/>
  <Override PartName="/ppt/media/image8.jpeg" ContentType="image/jpeg"/>
  <Override PartName="/ppt/media/whoosh.wav" ContentType="audio/x-wav"/>
  <Override PartName="/ppt/media/image5.wmf" ContentType="image/x-wmf"/>
  <Override PartName="/ppt/media/breez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881-46E2-4112-B58A-400160A5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AC4-9AC6-4F09-A90C-FB39C68A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3D6-3CFB-4353-BCF5-6BCA090C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164-8107-476D-B9B0-313A8929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581-321A-4B54-A629-67E3394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4D9-0781-42BB-B303-6F766AB2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2DF-344C-4B5F-9BC8-E921185B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830-62C6-490B-BA53-87C5900C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7E1-CAB1-47BF-9C4E-2B5384EA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B21-7882-4236-B6E0-B662196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A0F-39C1-4574-93CE-6048999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456-D9DC-439D-A229-3269001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7EE8-0BA1-482C-AFEA-B8EC57FB2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hammer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ashreg.wav"/><Relationship Id="rId4" Type="http://schemas.openxmlformats.org/officeDocument/2006/relationships/audio" Target="../media/voltage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push.wav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suction.wav"/><Relationship Id="rId3" Type="http://schemas.openxmlformats.org/officeDocument/2006/relationships/audio" Target="../media/click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darvill.clara.net/altenerg/tidal.htm" TargetMode="External"/><Relationship Id="rId3" Type="http://schemas.openxmlformats.org/officeDocument/2006/relationships/hyperlink" Target="http://www.darvill.clara.net/altenerg/hydro.htm" TargetMode="External"/><Relationship Id="rId4" Type="http://schemas.openxmlformats.org/officeDocument/2006/relationships/hyperlink" Target="http://www1.eere.energy.gov/windandhydro/" TargetMode="External"/><Relationship Id="rId5" Type="http://schemas.openxmlformats.org/officeDocument/2006/relationships/hyperlink" Target="http://www1.eere.energy.gov/windandhydro/" TargetMode="External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bomb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00ff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ydro-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hawn, Alex, and La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s are used to transfer water energy to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makes the generator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cycles keep dams fu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276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33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59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No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More reliable than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an increase to full power 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378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792600"/>
            <a:ext cx="45720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3333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s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dams is exp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ams may f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hard to find a suitable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and quantity of the water may 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757240" cy="95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40388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9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Motion origin="layout" path="M -0.09757 0.10179 C -0.19097 -0.00624 -0.2842 -0.11404 -0.33177 -0.13486 C -0.37934 -0.15568 -0.39878 -0.05574 -0.38351 -0.02359 C -0.36823 0.00856 -0.29548 0.0842 -0.23993 0.05807 C -0.18437 0.03193 -0.10243 -0.20818 -0.05052 -0.1802 C 0.00139 -0.15221 0.13281 0.17858 0.0717 0.22577 C 0.01059 0.27296 -0.33507 0.12445 -0.41771 0.1034 C -0.50035 0.08212 -0.48802 0.11266 -0.42361 0.09878 C -0.3592 0.0849 -0.09219 0.03378 -0.03055 0.02036 C 0.03108 0.00694 -0.05399 0.02105 -0.05417 0.01874 C -0.05434 0.01643 -0.04028 0.00671 -0.03177 0.00625 C -0.02326 0.00579 -0.02847 0.01088 -0.00347 0.01573 C 0.02153 0.02059 0.12431 0.03702 0.11875 0.03609 C 0.1132 0.03516 -0.00243 -0.02035 -0.03646 0.00949 C -0.07048 0.03933 -0.07691 0.21513 -0.08594 0.21467 C -0.09496 0.21421 -0.17587 0.02984 -0.09062 0.00625 C -0.00538 -0.01735 0.35174 -0.06083 0.42587 0.07356 C 0.5 0.20796 0.36702 0.68703 0.35417 0.81194 C 0.34132 0.93685 0.40729 0.95837 0.34827 0.82304 C 0.28924 0.68772 0.05816 0.13718 -3.33333E-006 -3.39116E-006 E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newable or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! Hydro-electricity is the most renewable energy source there is. It does not create any carbon dioxide like some of the other energy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2438280"/>
            <a:ext cx="3581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9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Contributing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6600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arvill.clara.net/altenerg/tidal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rvill.clara.net/altenerg/hydro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1.eere.energy.gov/windandhydr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540400" y="1447920"/>
            <a:ext cx="1962000" cy="21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257800" y="4359240"/>
            <a:ext cx="2743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4:17:52Z</dcterms:created>
  <dc:creator>default</dc:creator>
  <dc:description/>
  <dc:language>en-US</dc:language>
  <cp:lastModifiedBy>default</cp:lastModifiedBy>
  <dcterms:modified xsi:type="dcterms:W3CDTF">2008-02-12T15:08:32Z</dcterms:modified>
  <cp:revision>6</cp:revision>
  <dc:subject/>
  <dc:title>Hydro-Electricity</dc:title>
</cp:coreProperties>
</file>